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E5F-8B7D-41BE-AF61-F65E5122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C39-140B-40E0-8831-4F297170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53D8-588C-443B-8F9C-C2DBC6E8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C7B5-2951-4044-9BB7-E8C54030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168-BDD0-484E-BAF2-8E04F32C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730-A97B-43FF-B020-83ED1A29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D70-CA36-4E48-90F2-CC6257B5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250-8BD7-4A21-815E-16A6588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D0E-3996-4740-8532-56DE8E0A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F222-50E8-4909-BF23-8CA3FEB7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E09-50B9-4F88-82D6-24CB46A1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9FB-5146-48DC-847C-CDE3246A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0F5-2E70-4376-84DB-3FA994CE0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esus-face+thorns+blood" descr=""/>
          <p:cNvPicPr/>
          <p:nvPr/>
        </p:nvPicPr>
        <p:blipFill>
          <a:blip r:embed="rId2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267080" cy="9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في مشهدٍ أدمى العيون في أَلمٍ لم ينت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ربُّ السماءِ قد روى أرضاً طَغَتْ من دم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أَذكُرُ أني يَومها شاركْتُ في تسمير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Arabic Transparent"/>
                <a:cs typeface="Times New Roman"/>
              </a:rPr>
              <a:t>عَيني بعينهِ التَقَت رأيتُ دمعةً وقال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euswep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0" y="3886200"/>
            <a:ext cx="457200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أحبَبْتُكم للمنتهى  أحببتكم بلا حدو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ecff"/>
                </a:solidFill>
                <a:latin typeface="Times New Roman"/>
                <a:cs typeface="Arabic Transparent"/>
              </a:rPr>
              <a:t>وصيَّتي " حبّوا كما  أحببتكم بلا حدود</a:t>
            </a:r>
            <a:r>
              <a:rPr b="1" lang="ar-SA" sz="4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"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6257786BKgRhTuZiB_ph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0"/>
            <a:ext cx="3657600" cy="11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عشتُ أياماً طَوَت قلباً لَوى مِن كَرْبِه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ما استطعتُ لَحظَةً أن أَختفي مِن ح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تابَ قلبي نادماً فذاق حُبَّ رَبِّ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جثو وقلبي ينسبي إذ أَسمع الفادي يقول</a:t>
            </a:r>
            <a:r>
              <a:rPr b="1" lang="ar-SA" sz="4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:</a:t>
            </a:r>
            <a:r>
              <a:rPr b="0" lang="ar-SA" sz="24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27112176uwhvKdoRUB_ph" descr=""/>
          <p:cNvPicPr/>
          <p:nvPr/>
        </p:nvPicPr>
        <p:blipFill>
          <a:blip r:embed="rId1"/>
          <a:stretch/>
        </p:blipFill>
        <p:spPr>
          <a:xfrm>
            <a:off x="3809880" y="0"/>
            <a:ext cx="542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809880" cy="89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عندما يُسيءُ لي أخٌ قريبٌ أن بعيد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تغتلي في داخلي جميعُ أَصْنافِ الوَع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وشِكُ أن أَرُدَّها ضِعفاً بإصرارٍ يز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فجأةً يَحصُرُني صوتٌ من العُلى يقول</a:t>
            </a:r>
            <a:r>
              <a:rPr b="1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0:32:07Z</dcterms:created>
  <dc:creator>SUZANNE.MD</dc:creator>
  <dc:description/>
  <dc:language>en-US</dc:language>
  <cp:lastModifiedBy>SUZANNE.MD</cp:lastModifiedBy>
  <dcterms:modified xsi:type="dcterms:W3CDTF">2003-03-10T10:45:09Z</dcterms:modified>
  <cp:revision>1</cp:revision>
  <dc:subject/>
  <dc:title>PowerPoint Presentation</dc:title>
</cp:coreProperties>
</file>